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2E09C-A5A7-47E4-A8B5-3BD8EA509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23314-BD2F-451F-92C2-17929E46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A27DD-8AED-4C47-8154-1C1B9F868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DF2CF-EE11-4600-AAE0-B3C93D403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4F4F-4C35-4AEF-8C02-EA18C8F75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DBFC-C423-4FFA-9A09-9BF2A29F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B1AC-3FE8-440E-8776-CD2C0402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7864-A537-442D-BCC0-9E64B397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1A90-9E42-4540-8CD1-ED0C8985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8791-1C4D-406C-ADA9-BCB7F28C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4D05-333D-4EEB-9D5A-9118DC15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628E9-FC15-495D-B29D-CC70AED2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6C33-C79D-4829-8F16-9A5C695A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3AF3-9518-4A8D-9D70-A7D492B4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5951-6B89-4783-9301-10199328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1D93-8ADD-45D8-A58E-0D5FF1DB3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4620-85C8-48D8-B62E-AB81EFB1B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37839-2069-40CB-A8BD-5DDF826A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83615-7B7C-499D-9D73-B2337E23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291B1-0490-40B6-92D8-F7B43259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9BA4D-2230-4DCC-B7AD-5CBCBD3A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2C341-FAEF-4ED6-9DF6-9AAA3A31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0D50C-91F7-4DF3-8C97-D754A157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C39A3-B0DB-4AE8-A690-64B54134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2346-DB8A-4DAC-8D7B-55F496CF7CF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7D7B-9190-422F-BB56-A0E6BAD595C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MPICH2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PI-2 demos using pman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fen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-2 RMA 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Win_cre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P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ter puts work in worker windo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aves do work and put results in root’s wind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2057400"/>
            <a:ext cx="4267080" cy="3733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33720" y="2971800"/>
            <a:ext cx="2971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48400" y="274320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61400" y="350532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52760" y="388620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Put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61400" y="426708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58160" y="464832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Put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76920" y="2438280"/>
            <a:ext cx="198108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96080" y="2743200"/>
            <a:ext cx="4572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4419720"/>
            <a:ext cx="4572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67280" y="5410080"/>
            <a:ext cx="457200" cy="152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32160" y="3255840"/>
            <a:ext cx="311040" cy="2306880"/>
          </a:xfrm>
          <a:custGeom>
            <a:avLst/>
            <a:gdLst/>
            <a:ahLst/>
            <a:rect l="l" t="t" r="r" b="b"/>
            <a:pathLst>
              <a:path w="196" h="1271">
                <a:moveTo>
                  <a:pt x="196" y="1117"/>
                </a:moveTo>
                <a:cubicBezTo>
                  <a:pt x="176" y="1129"/>
                  <a:pt x="105" y="1271"/>
                  <a:pt x="73" y="1189"/>
                </a:cubicBezTo>
                <a:cubicBezTo>
                  <a:pt x="41" y="1107"/>
                  <a:pt x="0" y="808"/>
                  <a:pt x="1" y="623"/>
                </a:cubicBezTo>
                <a:cubicBezTo>
                  <a:pt x="2" y="438"/>
                  <a:pt x="46" y="156"/>
                  <a:pt x="78" y="78"/>
                </a:cubicBezTo>
                <a:cubicBezTo>
                  <a:pt x="110" y="0"/>
                  <a:pt x="172" y="141"/>
                  <a:pt x="196" y="157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867280" y="2819520"/>
            <a:ext cx="1981440" cy="2590560"/>
            <a:chOff x="5867280" y="2819520"/>
            <a:chExt cx="1981440" cy="2590560"/>
          </a:xfrm>
        </p:grpSpPr>
        <p:sp>
          <p:nvSpPr>
            <p:cNvPr id="228" name=""/>
            <p:cNvSpPr/>
            <p:nvPr/>
          </p:nvSpPr>
          <p:spPr>
            <a:xfrm flipV="1">
              <a:off x="5867280" y="2819520"/>
              <a:ext cx="182880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67280" y="3200400"/>
              <a:ext cx="1981440" cy="12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67280" y="3276720"/>
              <a:ext cx="381240" cy="2133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876920" y="2666520"/>
            <a:ext cx="2285280" cy="2057400"/>
            <a:chOff x="4876920" y="2666520"/>
            <a:chExt cx="2285280" cy="2057400"/>
          </a:xfrm>
        </p:grpSpPr>
        <p:sp>
          <p:nvSpPr>
            <p:cNvPr id="232" name=""/>
            <p:cNvSpPr/>
            <p:nvPr/>
          </p:nvSpPr>
          <p:spPr>
            <a:xfrm flipH="1" flipV="1">
              <a:off x="4876920" y="2666520"/>
              <a:ext cx="415440" cy="205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>
              <a:off x="5811480" y="2666880"/>
              <a:ext cx="1246680" cy="1928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6746760" y="2666880"/>
              <a:ext cx="415440" cy="642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561400" y="495288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59240" y="213372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cre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7" name=""/>
          <p:cNvCxnSpPr>
            <a:stCxn id="224" idx="2"/>
            <a:endCxn id="238" idx="6"/>
          </p:cNvCxnSpPr>
          <p:nvPr/>
        </p:nvCxnSpPr>
        <p:spPr>
          <a:xfrm flipH="1">
            <a:off x="7695360" y="4571640"/>
            <a:ext cx="30564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25" idx="0"/>
            <a:endCxn id="225" idx="0"/>
          </p:cNvCxnSpPr>
          <p:nvPr/>
        </p:nvCxnSpPr>
        <p:spPr>
          <a:xfrm>
            <a:off x="6095520" y="54097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2" name=""/>
          <p:cNvCxnSpPr>
            <a:stCxn id="225" idx="0"/>
            <a:endCxn id="240" idx="5"/>
          </p:cNvCxnSpPr>
          <p:nvPr/>
        </p:nvCxnSpPr>
        <p:spPr>
          <a:xfrm flipH="1" flipV="1">
            <a:off x="5886000" y="5200200"/>
            <a:ext cx="210240" cy="2102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43" name=""/>
          <p:cNvCxnSpPr>
            <a:stCxn id="223" idx="2"/>
            <a:endCxn id="241" idx="7"/>
          </p:cNvCxnSpPr>
          <p:nvPr/>
        </p:nvCxnSpPr>
        <p:spPr>
          <a:xfrm flipH="1">
            <a:off x="7562160" y="2895120"/>
            <a:ext cx="362520" cy="1342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44" name=""/>
          <p:cNvCxnSpPr>
            <a:stCxn id="212" idx="0"/>
            <a:endCxn id="222" idx="2"/>
          </p:cNvCxnSpPr>
          <p:nvPr/>
        </p:nvCxnSpPr>
        <p:spPr>
          <a:xfrm flipV="1">
            <a:off x="5562720" y="2666160"/>
            <a:ext cx="3052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2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1000" fill="hold"/>
                                        <p:tgtEl>
                                          <p:spTgt spid="2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2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1000" fill="hold"/>
                                        <p:tgtEl>
                                          <p:spTgt spid="2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1000" fill="hold"/>
                                        <p:tgtEl>
                                          <p:spTgt spid="2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-1 functions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Send, MPI_Recv, MPI_Bcast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ic MPI_COMM_WOR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izer communicates with the root process using a sock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19720" y="2362320"/>
            <a:ext cx="3886200" cy="3429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2971800"/>
            <a:ext cx="2971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48400" y="274320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servi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o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Open_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Comm_accep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Comm_conn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MPI_COMM_WORL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ster + work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876920" y="1752480"/>
          <a:ext cx="4038480" cy="425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752480"/>
                    <a:ext cx="4038480" cy="42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419720" y="2362320"/>
            <a:ext cx="3886200" cy="3429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1" name=""/>
          <p:cNvCxnSpPr>
            <a:stCxn id="145" idx="1"/>
            <a:endCxn id="145" idx="1"/>
          </p:cNvCxnSpPr>
          <p:nvPr/>
        </p:nvCxnSpPr>
        <p:spPr>
          <a:xfrm>
            <a:off x="4987440" y="28634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2" name=""/>
          <p:cNvSpPr/>
          <p:nvPr/>
        </p:nvSpPr>
        <p:spPr>
          <a:xfrm>
            <a:off x="4800600" y="25909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45" idx="1"/>
            <a:endCxn id="145" idx="1"/>
          </p:cNvCxnSpPr>
          <p:nvPr/>
        </p:nvCxnSpPr>
        <p:spPr>
          <a:xfrm>
            <a:off x="4987440" y="28634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54" name=""/>
          <p:cNvCxnSpPr>
            <a:stCxn id="152" idx="5"/>
            <a:endCxn id="147" idx="1"/>
          </p:cNvCxnSpPr>
          <p:nvPr/>
        </p:nvCxnSpPr>
        <p:spPr>
          <a:xfrm>
            <a:off x="4930560" y="2720880"/>
            <a:ext cx="308520" cy="308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762120" y="2209680"/>
            <a:ext cx="1676160" cy="1546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25909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6" idx="3"/>
            <a:endCxn id="158" idx="3"/>
          </p:cNvCxnSpPr>
          <p:nvPr/>
        </p:nvCxnSpPr>
        <p:spPr>
          <a:xfrm flipH="1">
            <a:off x="2133360" y="2720520"/>
            <a:ext cx="327600" cy="251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26668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29880" y="19051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pen_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ac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55680" y="213372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conn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spaw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ynamic Proces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ngle mas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ltiple sla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PI_Comm_spaw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root communicates with the workers using MPI function calls over the intercommunica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sualizer communicates with the root using a sock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971800"/>
            <a:ext cx="2971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48400" y="274320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7692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5308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4" idx="6"/>
            <a:endCxn id="176" idx="2"/>
          </p:cNvCxnSpPr>
          <p:nvPr/>
        </p:nvCxnSpPr>
        <p:spPr>
          <a:xfrm>
            <a:off x="6019920" y="3352320"/>
            <a:ext cx="7624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4" idx="4"/>
            <a:endCxn id="175" idx="0"/>
          </p:cNvCxnSpPr>
          <p:nvPr/>
        </p:nvCxnSpPr>
        <p:spPr>
          <a:xfrm>
            <a:off x="5562360" y="3809880"/>
            <a:ext cx="108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4" idx="5"/>
            <a:endCxn id="177" idx="1"/>
          </p:cNvCxnSpPr>
          <p:nvPr/>
        </p:nvCxnSpPr>
        <p:spPr>
          <a:xfrm>
            <a:off x="5886360" y="3676680"/>
            <a:ext cx="1029600" cy="876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5777640" y="1981080"/>
            <a:ext cx="23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a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-communic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spaserv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ynamic processes and 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gle mas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Open_port, MPI_Comm_accep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Comm_spawn to spawn wor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izer connects via MPI_Comm_conn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7692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55308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5308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6" name=""/>
          <p:cNvCxnSpPr>
            <a:stCxn id="192" idx="6"/>
            <a:endCxn id="194" idx="2"/>
          </p:cNvCxnSpPr>
          <p:nvPr/>
        </p:nvCxnSpPr>
        <p:spPr>
          <a:xfrm>
            <a:off x="6019920" y="3352320"/>
            <a:ext cx="7624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2" idx="4"/>
            <a:endCxn id="193" idx="0"/>
          </p:cNvCxnSpPr>
          <p:nvPr/>
        </p:nvCxnSpPr>
        <p:spPr>
          <a:xfrm>
            <a:off x="5562360" y="3809880"/>
            <a:ext cx="108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2" idx="5"/>
            <a:endCxn id="195" idx="1"/>
          </p:cNvCxnSpPr>
          <p:nvPr/>
        </p:nvCxnSpPr>
        <p:spPr>
          <a:xfrm>
            <a:off x="5886360" y="3676680"/>
            <a:ext cx="1029600" cy="876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5777640" y="5638680"/>
            <a:ext cx="23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a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-communic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25909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200" idx="5"/>
          </p:cNvCxnSpPr>
          <p:nvPr/>
        </p:nvCxnSpPr>
        <p:spPr>
          <a:xfrm>
            <a:off x="4930560" y="2720880"/>
            <a:ext cx="308520" cy="308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2438280" y="25909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3"/>
          </p:cNvCxnSpPr>
          <p:nvPr/>
        </p:nvCxnSpPr>
        <p:spPr>
          <a:xfrm flipH="1">
            <a:off x="2133360" y="2720520"/>
            <a:ext cx="327600" cy="251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04" name=""/>
          <p:cNvSpPr/>
          <p:nvPr/>
        </p:nvSpPr>
        <p:spPr>
          <a:xfrm>
            <a:off x="2590920" y="26668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29880" y="19051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pen_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ac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55680" y="213372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conn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2209680"/>
            <a:ext cx="1676160" cy="1546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4T07:15:40Z</dcterms:created>
  <dc:creator>David Ashton</dc:creator>
  <dc:description/>
  <dc:language>en-US</dc:language>
  <cp:lastModifiedBy>David Ashton</cp:lastModifiedBy>
  <dcterms:modified xsi:type="dcterms:W3CDTF">2003-11-14T08:25:36Z</dcterms:modified>
  <cp:revision>2</cp:revision>
  <dc:subject/>
  <dc:title>MPICH2</dc:title>
</cp:coreProperties>
</file>