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D9937-2D9B-4CBA-8C02-8E41E634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6A91-49E3-4E2C-8415-9354F385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8EAE4-8896-4851-B7EF-0FDE260F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0B73-E265-40EA-8054-96D9D240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72E6-0454-4A92-802B-53602035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4EA5-18EF-4048-A312-8D29AC0D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992E-CE2E-45C2-B779-EC76B31B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0A6D-1AED-4220-B368-FA314967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8CAB-EAB0-476D-96CC-8DB8AD82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7A7C-7EE9-417A-B865-D0F37791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A0BC-6FE3-49AE-AB1C-EB6DC129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01FD-5E86-461A-83B5-112B73CB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50D9-5C40-415C-9882-3DAFE2F7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40A8-EB28-4FFB-BBA1-DA467A46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7CB1-7A3C-445C-9ACB-03AC04B2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66B6-F390-4BDC-B2BB-4DF7DCF6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C2F0-62A2-40DE-B30E-DDB60EB2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9F394-F1FA-4A95-BDDE-39FBA102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A0295-70BD-4FC1-A76B-8EF880CD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66A84-C28A-46CD-9BA0-F8B9CF3B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49CE9-DCDB-4EE7-84B0-EC63AF3A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98394-0416-4312-B198-E228ECDC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1F8D-1CA2-44FB-B238-9538253E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F33DD-CCDB-41A9-8A72-0C4B24E0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CAF3-40FB-4868-9C3B-2336FB6600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317B-2952-4C12-8398-5BEC2DD0F6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PICH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I-2 demos using pman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f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2 RMA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 puts work in worker wind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s do work and put results in root’s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057400"/>
            <a:ext cx="426708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1400" y="3505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38862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614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8160" y="46483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438280"/>
            <a:ext cx="19810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74320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441972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5410080"/>
            <a:ext cx="45720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2160" y="3255840"/>
            <a:ext cx="311040" cy="2306880"/>
          </a:xfrm>
          <a:custGeom>
            <a:avLst/>
            <a:gdLst/>
            <a:ahLst/>
            <a:rect l="l" t="t" r="r" b="b"/>
            <a:pathLst>
              <a:path w="196" h="1271">
                <a:moveTo>
                  <a:pt x="196" y="1117"/>
                </a:moveTo>
                <a:cubicBezTo>
                  <a:pt x="176" y="1129"/>
                  <a:pt x="105" y="1271"/>
                  <a:pt x="73" y="1189"/>
                </a:cubicBezTo>
                <a:cubicBezTo>
                  <a:pt x="41" y="1107"/>
                  <a:pt x="0" y="808"/>
                  <a:pt x="1" y="623"/>
                </a:cubicBezTo>
                <a:cubicBezTo>
                  <a:pt x="2" y="438"/>
                  <a:pt x="46" y="156"/>
                  <a:pt x="78" y="78"/>
                </a:cubicBezTo>
                <a:cubicBezTo>
                  <a:pt x="110" y="0"/>
                  <a:pt x="172" y="141"/>
                  <a:pt x="196" y="1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67280" y="2819520"/>
            <a:ext cx="1981440" cy="2590560"/>
            <a:chOff x="5867280" y="2819520"/>
            <a:chExt cx="1981440" cy="2590560"/>
          </a:xfrm>
        </p:grpSpPr>
        <p:sp>
          <p:nvSpPr>
            <p:cNvPr id="228" name=""/>
            <p:cNvSpPr/>
            <p:nvPr/>
          </p:nvSpPr>
          <p:spPr>
            <a:xfrm flipV="1">
              <a:off x="5867280" y="2819520"/>
              <a:ext cx="18288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200400"/>
              <a:ext cx="19814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3276720"/>
              <a:ext cx="381240" cy="21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2666520"/>
            <a:ext cx="2285280" cy="2057400"/>
            <a:chOff x="4876920" y="2666520"/>
            <a:chExt cx="2285280" cy="2057400"/>
          </a:xfrm>
        </p:grpSpPr>
        <p:sp>
          <p:nvSpPr>
            <p:cNvPr id="232" name=""/>
            <p:cNvSpPr/>
            <p:nvPr/>
          </p:nvSpPr>
          <p:spPr>
            <a:xfrm flipH="1" flipV="1">
              <a:off x="4876920" y="2666520"/>
              <a:ext cx="41544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11480" y="2666880"/>
              <a:ext cx="1246680" cy="19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746760" y="2666880"/>
              <a:ext cx="41544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561400" y="49528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9240" y="21337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24" idx="2"/>
            <a:endCxn id="238" idx="6"/>
          </p:cNvCxnSpPr>
          <p:nvPr/>
        </p:nvCxnSpPr>
        <p:spPr>
          <a:xfrm flipH="1">
            <a:off x="7695360" y="4571640"/>
            <a:ext cx="3056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25" idx="0"/>
            <a:endCxn id="225" idx="0"/>
          </p:cNvCxnSpPr>
          <p:nvPr/>
        </p:nvCxnSpPr>
        <p:spPr>
          <a:xfrm>
            <a:off x="6095520" y="5409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5" idx="0"/>
            <a:endCxn id="240" idx="5"/>
          </p:cNvCxnSpPr>
          <p:nvPr/>
        </p:nvCxnSpPr>
        <p:spPr>
          <a:xfrm flipH="1" flipV="1">
            <a:off x="5886000" y="5200200"/>
            <a:ext cx="210240" cy="2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3" name=""/>
          <p:cNvCxnSpPr>
            <a:stCxn id="223" idx="2"/>
            <a:endCxn id="241" idx="7"/>
          </p:cNvCxnSpPr>
          <p:nvPr/>
        </p:nvCxnSpPr>
        <p:spPr>
          <a:xfrm flipH="1">
            <a:off x="7562160" y="2895120"/>
            <a:ext cx="362520" cy="134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4" name=""/>
          <p:cNvCxnSpPr>
            <a:stCxn id="212" idx="0"/>
            <a:endCxn id="222" idx="2"/>
          </p:cNvCxnSpPr>
          <p:nvPr/>
        </p:nvCxnSpPr>
        <p:spPr>
          <a:xfrm flipV="1">
            <a:off x="5562720" y="2666160"/>
            <a:ext cx="3052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1 fun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Send, MPI_Recv, MPI_Bcast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MPI_COMM_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mmunicates with the root process using a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erv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PI_COMM_WOR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ter +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76920" y="1752480"/>
          <a:ext cx="403848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403848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>
            <a:stCxn id="152" idx="5"/>
            <a:endCxn id="147" idx="1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8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w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I_Comm_spa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ot communicates with the workers using MPI function calls over the intercommunic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 communicates with the root using a s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6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5"/>
            <a:endCxn id="177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777640" y="19810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ser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processes and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, 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Comm_spawn to spaw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nnects via MPI_Comm_conn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2" idx="6"/>
            <a:endCxn id="194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4"/>
            <a:endCxn id="193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2" idx="5"/>
            <a:endCxn id="195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77640" y="56386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200" idx="5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7:15:40Z</dcterms:created>
  <dc:creator>David Ashton</dc:creator>
  <dc:description/>
  <dc:language>en-US</dc:language>
  <cp:lastModifiedBy>David Ashton</cp:lastModifiedBy>
  <dcterms:modified xsi:type="dcterms:W3CDTF">2003-11-14T08:25:36Z</dcterms:modified>
  <cp:revision>2</cp:revision>
  <dc:subject/>
  <dc:title>MPICH2</dc:title>
</cp:coreProperties>
</file>